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5C3-11C0-407F-89FA-93C4F402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B96-0131-40B6-807C-9E3C72F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535-EAF1-4ABA-A40A-8B765CEA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140-3767-4CB4-90E0-AC1FCF78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6D77-3963-4162-92D7-3965AB70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64D-4F86-4D8D-8546-E382DD3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3FF-7514-496D-98D5-9E08E42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EBF-6EE5-4827-8DBD-405CD678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9C00-8E29-4989-9F34-50DECB7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025-D1B2-4C1C-8AB0-23627B85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A30D-3818-4F90-9DD1-F46CCAF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AE0-3729-4E7A-B1C2-2C4B25B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53DE-D17D-42EB-9E41-A4DA8F7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A0FF-B4C4-41E2-B8AD-9978029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D88D-B1D5-42C1-88AF-33384C4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C244-4A78-4DE2-A0C0-461D9469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DEE6-547B-463E-AF7B-BB5D0585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009-FA27-4E20-B395-ACA8E1D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DBB-25A4-4242-8492-D16A422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E6B-6AE9-455B-A75A-84897E95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C00-70AA-42AB-9A68-0D5243F8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381-BADC-4B50-9CA2-AEED2F8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9F5-B389-4A9A-92DF-CD3D2E66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4B8-6911-4244-993F-A82438A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9C9C-EDA5-4F66-879C-72C22D8AB4C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E1B-DF7C-4BA5-97F5-9F48318748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emical Re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(or Combination)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wo or more substances combine to form a “larger” compound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Group 1A &amp; 2A metal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use common charges to predict ionic compound form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Transition metals or 2 nonmetal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many products are possi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nthesis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 of bar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ination of copper and sulf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16294" t="4441" r="16294" b="12451"/>
          <a:stretch/>
        </p:blipFill>
        <p:spPr>
          <a:xfrm>
            <a:off x="6937200" y="2286000"/>
            <a:ext cx="22068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re complex molecule breaks down into simpler sub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Binary compounds-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compose into constituent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ernary or more complex compound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decompose into either constituent elements or into a combination of compoun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MMARY OF REACTIONS in PACK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 of sulfur trioxide g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 of ammonium nitrate to produce dinitrogen oxide and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0" t="0" r="52782" b="0"/>
          <a:stretch/>
        </p:blipFill>
        <p:spPr>
          <a:xfrm>
            <a:off x="2133720" y="2590920"/>
            <a:ext cx="129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omposition v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so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composition- atoms with NEW properties are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sociation- ions without new properties are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267440" cy="28573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5720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ng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ssible reaction between an element and an aqueous 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s ONLY replace metals and nonmetals ONLY replace non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tivity series (front of packet) used to predict whether replacement will occu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thium is combined with calcium nit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lver is placed into a solution of magnesium carbon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lorine gas is bubbled through a solution of aluminum brom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sible exchange of partners by two comp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posites attract- two positive ions WILL NOT combine (two negative ions won’t either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bility Rules (handout)- used to predict if double replacement will occ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.R.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tions of magnesium nitrate and aluminum phosphat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lutions of sodium chloride and aluminum nitrat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t Ionic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iminate spectator 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lutions of sodium chloride and silver nitrate are mix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derstanding Chemical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chemical reaction occurs when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change in energy occu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othermic –gives off energ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ndothermic – absorbs energ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r chang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new gas is cr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precipitate is formed from 2 solu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Replacement to Form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ids and bases react in a double replacement reaction and produce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id- produces 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 Black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ons, pH &lt; 7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- produces 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ons, pH &gt; 7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utralization- producing neutral water (pH = 7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utraliza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ydrochloric acid and sodium hydroxid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lfuric acid and calcium hydroxide are mix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 Rea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Reactant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starting “ingredients” for the reaction (written to LEFT of arrow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Product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final result(s) of reaction (written to RIGHT of arrow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Arrow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signifies a change is taking place (read “react to form” or “yield”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Symbols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used to specify properties of reactants and products or conditions of the reaction (s), (l), (g), (aq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d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4(aq)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+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(s)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g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4(aq)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+ Cu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(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queous copper (II) sulfate and solid silver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react to produc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queous silver sulfate and solid copper.”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y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Law of Conservation of Mass (LCM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mass is neither created nor destroyed in chemical reactions (Antione Lavosier, 1700’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efficients- added so reactions obey the LCM (DON’T touch subscripts!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cedure for Balanc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formulas for reactants and product on respective sides of the equ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form initial “atom inventory” on each side of the equ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d coefficients to make inventories match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pdate and repeat as nee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ify answer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Rea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us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the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mpos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ng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replace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ction with oxygen that releases energy (heat or ligh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ydrocarb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(contain only C and H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omplete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bustion always produces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g) and 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(g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note: incomplete combustion may result in C(s) or CO(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bustion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te combustion of propane (C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bustion of alumin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twenty pound propane tank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7:18:13Z</dcterms:created>
  <dc:creator>cmichene</dc:creator>
  <dc:description/>
  <dc:language>en-US</dc:language>
  <cp:lastModifiedBy>udsd</cp:lastModifiedBy>
  <dcterms:modified xsi:type="dcterms:W3CDTF">2010-03-15T15:22:10Z</dcterms:modified>
  <cp:revision>36</cp:revision>
  <dc:subject/>
  <dc:title>Chapter 10</dc:title>
</cp:coreProperties>
</file>